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A8AD-C845-46F5-8AA8-4F8E5B52A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ytimes.com/2009/01/11/magazine/11Genome-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2C7-9F45-4BD4-9C34-8A18420B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12D-93AE-4A84-B84C-4F2EBCD7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4DE-F17B-4D05-9E08-E99B1DEA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EAF-86E3-45D7-8C99-EF334AAA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18B-4FFA-4E2A-B465-43D665C0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1C8-7519-47BA-A64D-69DA8A93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41C-3797-413A-B5C3-179E5E54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950E-3E07-461A-84AD-24060989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2F7-39C9-4FB6-9E46-B05014A3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D0D-9E41-4E3A-AD18-DF5BECC1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89B-04A0-437E-AF42-6817BEA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371-CE45-4005-9815-3A7D405C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3B7C-3713-4118-8A69-A49B8D05B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eglobeandmail.com/news/national/time-to-lead/the-personal-genome-project-a-brave-new-world-for-science-and-privacy/article6089124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Time To 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NA Di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Series in the Globe &amp; M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000 Canadians are being asked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will be placed on an online database, open and available to anyone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is vide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heglobeandmail.com/news/national/time-to-lead/the-personal-genome-project-a-brave-new-world-for-science-and-privacy/article608912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209600"/>
            <a:ext cx="7772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ven Pin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st &amp; professor at 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d in the Personal Genome Project in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his genome, he has an 80% chance of being b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32004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tly there is still a lot more to be learned about the how genes determine characteristics and how gene expression is controll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065240"/>
            <a:ext cx="784872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cer In the Fami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want to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is vide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heglobeandmail.com/news/national/time-to-lead/cancer-in-the-family-sisters-search-for-answers/article5929337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Discr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is the only G8 country with no laws against genetic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Erno family’s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heglobeandmail.com/news/national/time-to-lead/video-alberta-couple-struggles-with-the-results-of-a-genetic-test/article6089127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found out that you had a gene variant for a dis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Chad Sapieha decided to 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heglobeandmail.com/news/national/time-to-lead/a-genetic-test-solves-a-hereditary-mystery-and-saves-a-life/article6131121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6:19:50Z</dcterms:created>
  <dc:creator>rubina khan</dc:creator>
  <dc:description/>
  <dc:language>en-US</dc:language>
  <cp:lastModifiedBy>rubina khan</cp:lastModifiedBy>
  <dcterms:modified xsi:type="dcterms:W3CDTF">2012-12-14T07:00:08Z</dcterms:modified>
  <cp:revision>17</cp:revision>
  <dc:subject/>
  <dc:title>Our Time To Lead</dc:title>
</cp:coreProperties>
</file>